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017BF9-67A9-4C21-8A3B-52B7180A8C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19357-9C4D-40D9-AA29-920A96B71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2C3F8C-6EB0-46EC-A269-9ABB8E4972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EF76CD-E1EC-4C8C-A235-A6DD0E879C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95C556-9B81-4C27-8E83-B4DEDDDD73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D1D399-6C9B-4922-A6E1-55DED6C684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B7AAF4-949A-4AE0-937D-9CB74E07B0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1119DD-0B62-4F68-B20B-E903E65A58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544F25-90C8-403A-A93B-1FF0F95154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7C7690-8B3E-4B0F-A154-50D04DA6C4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4CBC0-37D1-419B-9167-0D3DA55083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91BA1-9C09-414E-B5D5-E63368739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1C722-FB98-4997-A7EF-0327BF4A1E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E9FF4-9B91-407B-9EC4-AD6B7E6D6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102C21-5ED8-4DB3-8EF6-4D98518863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9412AF-460E-4682-96B3-7C7999CA55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EE7589-5E1F-4C74-B55C-6613A31C28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AE5E6-DD89-4706-AF92-2CF75B409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75E5B-8B20-4ED0-A683-D4DD1603C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A9C9B-4E53-4A65-91C2-F33C67515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4AE62-BF52-4F1D-ACC4-759F77EC2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54C9F-D9CD-4E56-AAC7-7A14557A9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F20D9-00ED-466C-88CD-C6A501934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DC8F3-9CD4-4631-B725-A3BA1C52FF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C7888-3FFD-40DD-869A-8C0F58428A31}"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3FFF2-011D-43B2-9433-FDCAE8DF739A}"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爱情心理学</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左江萍</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009.11.7</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b.</a:t>
            </a:r>
            <a:r>
              <a:rPr b="1" lang="zh-CN" sz="4400" spc="-1" strike="noStrike">
                <a:solidFill>
                  <a:srgbClr val="000000"/>
                </a:solidFill>
                <a:latin typeface="Comic Sans MS"/>
              </a:rPr>
              <a:t>逃避型依附</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母欲离去时婴儿无反应，母回来后也无反应，通过仪器发现婴儿也有焦虑情绪，只是不表露出来。这与母婴平时的相处经验有关，婴儿学会了不期望母亲能长时间相伴。这类的恋人，表现为比较冷漠，但是内心很需要爱情，只是不知道该怎样去爱，他们更倾向于通过网络等其他非面对面的渠道寻找感情。 </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c.</a:t>
            </a:r>
            <a:r>
              <a:rPr b="1" lang="zh-CN" sz="4400" spc="-1" strike="noStrike">
                <a:solidFill>
                  <a:srgbClr val="000000"/>
                </a:solidFill>
                <a:latin typeface="Comic Sans MS"/>
              </a:rPr>
              <a:t>焦虑型，不安全型依附</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母欲离去时婴哭喊不从更甚于</a:t>
            </a:r>
            <a:r>
              <a:rPr b="1" lang="zh-CN" sz="3200" spc="-1" strike="noStrike">
                <a:solidFill>
                  <a:srgbClr val="000000"/>
                </a:solidFill>
                <a:latin typeface="Comic Sans MS"/>
              </a:rPr>
              <a:t>a</a:t>
            </a:r>
            <a:r>
              <a:rPr b="1" lang="zh-CN" sz="3200" spc="-1" strike="noStrike">
                <a:solidFill>
                  <a:srgbClr val="000000"/>
                </a:solidFill>
                <a:latin typeface="Comic Sans MS"/>
              </a:rPr>
              <a:t>，母回来后还要打母亲，很久之后才会安静下来，边玩边看着母，怕母亲再离去。给予这类恋人的忠告是：首先懂得怎样当一个快乐的单身，才能在关系中找到快乐。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26920" y="764640"/>
            <a:ext cx="6870960" cy="863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d.</a:t>
            </a:r>
            <a:r>
              <a:rPr b="1" lang="zh-CN" sz="4400" spc="-1" strike="noStrike">
                <a:solidFill>
                  <a:srgbClr val="000000"/>
                </a:solidFill>
                <a:latin typeface="Comic Sans MS"/>
              </a:rPr>
              <a:t>紊乱型依附</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母欲离去时婴表现慌乱，不知道该怎么办，母回来后亦不知道该怎么办，有时会出现张开手要抱的同时后退不让母接近。因为婴儿希望爱的对象——母亲，也是造成其痛苦的对象，爱恨交织。这种类型的恋人一般受伤很多，分手时常会做出比较出格的事，致命吸引。</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551520"/>
            <a:ext cx="687060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爱是要学习的！</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天下人间，最重要的关系就是爱情关系，亲密关系！</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愿大家拥护美好的爱情！</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691920"/>
            <a:ext cx="6870600" cy="93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   </a:t>
            </a:r>
            <a:r>
              <a:rPr b="1" lang="zh-CN" sz="4400" spc="-1" strike="noStrike">
                <a:solidFill>
                  <a:srgbClr val="000000"/>
                </a:solidFill>
                <a:latin typeface="Comic Sans MS"/>
              </a:rPr>
              <a:t>两个基本目的</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412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1   </a:t>
            </a:r>
            <a:r>
              <a:rPr b="1" lang="zh-CN" sz="3200" spc="-1" strike="noStrike">
                <a:solidFill>
                  <a:srgbClr val="000000"/>
                </a:solidFill>
                <a:latin typeface="Comic Sans MS"/>
              </a:rPr>
              <a:t>宣传爱情心理学</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   </a:t>
            </a:r>
            <a:r>
              <a:rPr b="1" lang="zh-CN" sz="3200" spc="-1" strike="noStrike">
                <a:solidFill>
                  <a:srgbClr val="000000"/>
                </a:solidFill>
                <a:latin typeface="Comic Sans MS"/>
              </a:rPr>
              <a:t>介绍一种爱情理论</a:t>
            </a:r>
            <a:endParaRPr b="0" lang="en-US" sz="3200" spc="-1" strike="noStrike">
              <a:solidFill>
                <a:srgbClr val="000000"/>
              </a:solidFill>
              <a:latin typeface="Comic Sans MS"/>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omic Sans MS"/>
              </a:rPr>
              <a:t>一个中心思想</a:t>
            </a:r>
            <a:endParaRPr b="0" lang="en-US" sz="48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3200" spc="-1" strike="noStrike">
                <a:solidFill>
                  <a:srgbClr val="000000"/>
                </a:solidFill>
                <a:latin typeface="Comic Sans MS"/>
              </a:rPr>
              <a:t>探索如何提高爱情质量，从而达到身心健康，促进社会和谐。</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21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报告的内容</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爱情是什么</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爱情心理学是什么</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依附理论</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爱情是什么？</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483920"/>
            <a:ext cx="7696080" cy="4465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爱情，这个人类古老而又新鲜的话题，仿佛是一个人类永远都无法揭开的迷。说到爱情几乎每一个人都有自己的看法。</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各种各样的爱情，既引人入胜，又令人烦恼，既让人倍感趣味，又使人深感不安，既是人们的迷恋之物，又是真正的感人之物。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443160"/>
            <a:ext cx="687060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Comic Sans MS"/>
            </a:endParaRPr>
          </a:p>
        </p:txBody>
      </p:sp>
      <p:sp>
        <p:nvSpPr>
          <p:cNvPr id="160" name="PlaceHolder 2"/>
          <p:cNvSpPr>
            <a:spLocks noGrp="1"/>
          </p:cNvSpPr>
          <p:nvPr>
            <p:ph/>
          </p:nvPr>
        </p:nvSpPr>
        <p:spPr>
          <a:xfrm>
            <a:off x="685800" y="475920"/>
            <a:ext cx="7696080" cy="5473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如果把爱情看作一枚硬币，则一面是男人，另一面可是女人。她们很复杂，谁也离不开谁，而且谁都不是能够一眼看穿对方。 　</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3200" spc="-1" strike="noStrike">
                <a:solidFill>
                  <a:srgbClr val="000000"/>
                </a:solidFill>
                <a:latin typeface="Comic Sans MS"/>
              </a:rPr>
              <a:t>其实男人女人就像尺有所长寸有所短，男人有其可歌可泣的优点，同时也有可鄙可耻的劣根；女人有可爱可亲的长处，同时也有可气可恼的顽习。也正因为如此才演绎出版本各异的现代都市爱情。</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55280" y="-360"/>
            <a:ext cx="6870600" cy="987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爱情心理学是什么？</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196640"/>
            <a:ext cx="7696080" cy="511164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爱情心理学是研究男女恋爱中的心理现象及其发生与发展规律的科学，即探讨男女在恋爱、婚姻中，爱情的获得及稳固的心理规律，包括恋爱心理和婚姻心理两部分。</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它具体研究：稳固爱情的心理规律；男女相爱的心理奥秘；求爱及择偶心理；初恋心理；爱情挫折心理及婚后各阶段的爱情发展之心理特点等等。它是一门应用心理学。</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443160"/>
            <a:ext cx="687060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3200" spc="-1" strike="noStrike">
                <a:solidFill>
                  <a:srgbClr val="000000"/>
                </a:solidFill>
                <a:latin typeface="Comic Sans MS"/>
              </a:rPr>
              <a:t>爱情不仅受社会、思想伦理等因素影响，也受许多复杂心理因素的制约。掌握好爱情中的心理问题，将会使爱情甜蜜、美满。但是理论存在的意义是提供我们理解问题的方向，请不要忽略理论和实际的差距，当爱情可以解释，未必是好事。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依附理论</a:t>
            </a:r>
            <a:br>
              <a:rPr sz="4400"/>
            </a:br>
            <a:r>
              <a:rPr b="1" lang="zh-CN" sz="4400" spc="-1" strike="noStrike">
                <a:solidFill>
                  <a:srgbClr val="000000"/>
                </a:solidFill>
                <a:latin typeface="Comic Sans MS"/>
              </a:rPr>
              <a:t>（</a:t>
            </a:r>
            <a:r>
              <a:rPr b="1" lang="zh-CN" sz="4400" spc="-1" strike="noStrike">
                <a:solidFill>
                  <a:srgbClr val="000000"/>
                </a:solidFill>
                <a:latin typeface="Comic Sans MS"/>
              </a:rPr>
              <a:t>Attachment Theory</a:t>
            </a:r>
            <a:r>
              <a:rPr b="1" lang="zh-CN" sz="4400" spc="-1" strike="noStrike">
                <a:solidFill>
                  <a:srgbClr val="000000"/>
                </a:solidFill>
                <a:latin typeface="Comic Sans MS"/>
              </a:rPr>
              <a:t>）</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66" name="PlaceHolder 2"/>
          <p:cNvSpPr>
            <a:spLocks noGrp="1"/>
          </p:cNvSpPr>
          <p:nvPr>
            <p:ph/>
          </p:nvPr>
        </p:nvSpPr>
        <p:spPr>
          <a:xfrm>
            <a:off x="250560" y="1828440"/>
            <a:ext cx="8497800" cy="433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通过研究母亲与其</a:t>
            </a:r>
            <a:r>
              <a:rPr b="1" lang="zh-CN" sz="3200" spc="-1" strike="noStrike">
                <a:solidFill>
                  <a:srgbClr val="000000"/>
                </a:solidFill>
                <a:latin typeface="Comic Sans MS"/>
              </a:rPr>
              <a:t>1</a:t>
            </a:r>
            <a:r>
              <a:rPr b="1" lang="zh-CN" sz="3200" spc="-1" strike="noStrike">
                <a:solidFill>
                  <a:srgbClr val="000000"/>
                </a:solidFill>
                <a:latin typeface="Comic Sans MS"/>
              </a:rPr>
              <a:t>岁孩子的互动提出的，因为母婴关系与恋人关系有着很大程度的类似：在一起时的心理满足和分离时焦虑情绪；“被无条件接纳”的心理需求和“被重视”的心理需求（如果婴儿发现母亲不理它，就会哭闹来引起母亲的注意，期望母亲产生内疚来更好的满足自己）。所以有人戏称所有相爱的人心理年龄都会降到</a:t>
            </a:r>
            <a:r>
              <a:rPr b="1" lang="zh-CN" sz="3200" spc="-1" strike="noStrike">
                <a:solidFill>
                  <a:srgbClr val="000000"/>
                </a:solidFill>
                <a:latin typeface="Comic Sans MS"/>
              </a:rPr>
              <a:t>3</a:t>
            </a:r>
            <a:r>
              <a:rPr b="1" lang="zh-CN" sz="3200" spc="-1" strike="noStrike">
                <a:solidFill>
                  <a:srgbClr val="000000"/>
                </a:solidFill>
                <a:latin typeface="Comic Sans MS"/>
              </a:rPr>
              <a:t>岁以下，退化成为父女或者母子关系。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a.</a:t>
            </a:r>
            <a:r>
              <a:rPr b="1" lang="zh-CN" sz="4400" spc="-1" strike="noStrike">
                <a:solidFill>
                  <a:srgbClr val="000000"/>
                </a:solidFill>
                <a:latin typeface="Comic Sans MS"/>
              </a:rPr>
              <a:t>安全型依附</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母欲离去时婴欲挽留，表现出不快乐，母不在时无心玩玩具，母回来后张手希望被抱，被抱一会儿后就要下地接着玩儿。这样的婴儿长大后在恋爱中表现较好，包容、谅解、易相处，尊重爱人，不论你需要个人空间还是亲近时，他</a:t>
            </a:r>
            <a:r>
              <a:rPr b="1" lang="zh-CN" sz="3200" spc="-1" strike="noStrike">
                <a:solidFill>
                  <a:srgbClr val="000000"/>
                </a:solidFill>
                <a:latin typeface="Comic Sans MS"/>
              </a:rPr>
              <a:t>/</a:t>
            </a:r>
            <a:r>
              <a:rPr b="1" lang="zh-CN" sz="3200" spc="-1" strike="noStrike">
                <a:solidFill>
                  <a:srgbClr val="000000"/>
                </a:solidFill>
                <a:latin typeface="Comic Sans MS"/>
              </a:rPr>
              <a:t>她都可以给你。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13:53:57Z</dcterms:created>
  <dc:creator>asus</dc:creator>
  <dc:description/>
  <dc:language>en-US</dc:language>
  <cp:lastModifiedBy>asus</cp:lastModifiedBy>
  <dcterms:modified xsi:type="dcterms:W3CDTF">2009-11-07T05:34:45Z</dcterms:modified>
  <cp:revision>4</cp:revision>
  <dc:subject/>
  <dc:title>爱情心理学</dc:title>
</cp:coreProperties>
</file>